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46C-6A5B-4258-B29D-90A8E216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65C-7F9B-41A9-B1C6-2EE48D7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53E-3920-4342-940B-03219E5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596-CA57-483F-B41D-C1EC1DBE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BE0-4E75-4458-BFEB-D736EE1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66F-10F9-43BA-AF7A-4368BF73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1B5-9A6C-4917-A598-75C595C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AFB-8BC0-4FA6-9A3A-436E243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6A0-FB24-413E-A7CF-C74D8D0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203-DBFA-4F0C-868B-DE627B2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926-22E7-480C-B1BD-A9EDBB5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8A6-F372-48AD-9435-0A6D924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C8D-98F9-499F-9E78-E86CCD3B6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age.com/century/campaigns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vertising Age - The Advertising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img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http://agency.travelwisconsin.com/Programs/ppt_adplan/img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img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img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http://agency.travelwisconsin.com/Programs/ppt_adplan/img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img020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img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img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http://agency.travelwisconsin.com/Programs/ppt_adplan/img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agency.travelwisconsin.com/Programs/ppt_adplan/img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agency.travelwisconsin.com/Programs/ppt_adplan/img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agency.travelwisconsin.com/Programs/ppt_adplan/img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http://agency.travelwisconsin.com/Programs/ppt_adplan/img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http://agency.travelwisconsin.com/Programs/ppt_adplan/img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agency.travelwisconsin.com/Programs/ppt_adplan/img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agency.travelwisconsin.com/Programs/ppt_adplan/img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ttp://agency.travelwisconsin.com/Programs/ppt_adplan/img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agency.travelwisconsin.com/Programs/ppt_adplan/img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img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ttp://agency.travelwisconsin.com/Programs/ppt_adplan/img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47:57Z</dcterms:created>
  <dc:creator>pv</dc:creator>
  <dc:description/>
  <dc:language>en-US</dc:language>
  <cp:lastModifiedBy>Administrator</cp:lastModifiedBy>
  <dcterms:modified xsi:type="dcterms:W3CDTF">2013-05-22T02:43:34Z</dcterms:modified>
  <cp:revision>3</cp:revision>
  <dc:subject/>
  <dc:title>PowerPoint Presentation</dc:title>
</cp:coreProperties>
</file>